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F0C-2F16-4C27-B6AA-FBC2635A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37C-8418-415F-8978-D51ABBA1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CAB-D00C-4B36-A7CF-01A30C21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B216-492A-46DF-ADF3-5710A018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C42-411B-4305-B37B-A4FC17D1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0DC-077A-4BF1-8436-4F95648E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A4C-4B00-41C0-9263-59079CBF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FE9-B5C6-40D0-9BBA-B4E1BF1D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4EA-6FDC-4B6C-AE66-4955CF8B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280-EC7E-487C-BE56-2786934E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ADE-0D2F-4027-B8B5-F09BC674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4D7-D68D-4A17-83DF-5ED6833E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63B5-1D5B-41E4-B541-750F207C0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blogs.seattleweekly.com/voracious/corn.jpg&amp;imgrefurl=http://blogs.seattleweekly.com/voracious/2008/09/do_not_open_the_corn.php&amp;usg=__KkD4Xvw50_qcZfG_KC7deyVxCKw=&amp;h=300&amp;w=360&amp;sz=33&amp;hl=en&amp;start=3&amp;zoom=1&amp;itbs=1&amp;tbnid=jC7yjzfxn9PXgM:&amp;tbnh=101&amp;tbnw=121&amp;prev=/images%3Fq%3DCorn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USSIA’S  EC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Allessandra Toscanini, Darren Chau, and Skerdilaid Ho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9718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106668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FOOD PRODUCED IN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ato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ar b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oadway"/>
              </a:rPr>
              <a:t>Manufactu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St. Petersburg is a shipbuilding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ost manufacturing centers are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Factories focus on heavy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Some factories switched to light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Factories in St. Petersburg make light machinery, textiles, and scientific and 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2:05Z</dcterms:created>
  <dc:creator> </dc:creator>
  <dc:description/>
  <dc:language>en-US</dc:language>
  <cp:lastModifiedBy> </cp:lastModifiedBy>
  <dcterms:modified xsi:type="dcterms:W3CDTF">2010-12-20T14:14:13Z</dcterms:modified>
  <cp:revision>4</cp:revision>
  <dc:subject/>
  <dc:title>RUSSIA’S  ECONOMY</dc:title>
</cp:coreProperties>
</file>